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CAB0-48E3-4D2C-B8AE-B1BF2189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C5E9-9251-4D30-8176-1511B4A7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2CA-7E50-44F3-8550-D0462264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8AAD-B092-46E4-9128-732196CA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35C8-166D-4D75-ADF2-963A8D20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6B63-26C5-43CE-A5EA-2F2C5EF1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0843-00C0-4535-AD59-42858D27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FA52-3CD3-49B5-A3A8-E21FBDD7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6E5B-764C-4F92-A092-62C8C102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68AB-978C-481C-B533-C4F9E63C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1970-A379-4DDC-ACE4-830D54B9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371E-7645-4F71-9DF9-E30AA40E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A384-017D-4E34-89CA-C9B3B95172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Times New Roman"/>
              </a:rPr>
              <a:t>Rakendusliku loogika süvakur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Tanel Tammet, Tiina Zing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searvutuse valemid on lausete hulk, mis defineeritakse induktiivse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Kõik lausesümbolid on valemid (atomaarvalemid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Loogilised konstandid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Arial"/>
              </a:rPr>
              <a:t> T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(tõene)  ja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(väär) on valemi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on valem, siis on ka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vale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ja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on valemid, siis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) ja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) on samuti valemi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Muid lausearvutuse valemeid p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mvale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emas alamlausena esinev va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stel tehetel on fikseeritud prioriteedid, tänu millele on võimalik sulgude hulka valemites vähendada (kahanevas järjekorras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ge vähendada võimaldab ka assotsiatiivsusreegel, mis kehtib konju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siooni ja disjunktsiooni jao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 Lausearvutuse semantik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antikareeglid ütlevad, kuida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mvalemite tõeväärtuste põhjal määrata kogu valemi tõeväärtust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u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usearvutuse valem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ga lausemuutuja väärtuseks on kas tõene (T) või väär (V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on tõene parajasti siis, 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on vää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on tõene parajasti siis, 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ja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mõlemad on tõese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parajasti siis, kui vähemalt üks valemitest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parajasti siis, 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äär võ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õen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parajasti siis, 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õeväärtused on sam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u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kseeritud lausesümbolite tähestik (signatuur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sioonik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imetatakse suvalist funktsioon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0,1}. Lausearvutuse valemite väärtustus on aga funktsioon, mis annab kõigile valemitele väärtuse sõltuvalt konkreetsest interpretatsioon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äärtuseks interpretatsioon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1, siis öeldakse, e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 tõene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htestab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htib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) ning seda tähistatakse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tupidisel juhul öeldakse, e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 vää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61" name="Object 5"/>
          <p:cNvGraphicFramePr/>
          <p:nvPr/>
        </p:nvGraphicFramePr>
        <p:xfrm>
          <a:off x="7086600" y="243828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24382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 Tõeväärtustabeli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õeväärtustabel sisaldab lausearvutuse valemi kõikvõimalikke väärtustusi. Kui valemis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utujat, siis tabel koosneb 2</a:t>
            </a:r>
            <a:r>
              <a:rPr b="0" i="1" lang="et-EE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st, et võimaldada arvutada valemi väärtust igasuguse muutujate väärtuste kombinatsiooni jaoks. Pikemate valemite puhul on mõistlik arvutada esmalt väiksemate alamvalemite tõeväärtused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. Lausearvutuse valemite liigitus: 4 varian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ldkehtiv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utoloogili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selt tõe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em, kui see on tõene kõigil lausemuutujate väärtustuste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htestamatu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tuoluli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selt väär valem, kui see on väär kõigil lausemuutujate väärtustuste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htestatav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i see on tõene mingi väärtustuse korra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ääratav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i see mingi väärtustuse puhul ei ole tõe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autoloogia parajasti siis, ku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astuol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astuolu parajasti siis, ku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autoloogi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ehtestatav parajasti siis, ku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äärata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ääratav parajasti siis, ku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ehtestata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3333cc"/>
                </a:solidFill>
                <a:latin typeface="Times New Roman"/>
              </a:rPr>
              <a:t>Teem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searvutus (lauseloogik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ikaatarvutus (predikaatloogik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letussüsteem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kventsarvut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te hulga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hta öeldakse, et see tingib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ogili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äreldu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ähistus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kui iga interpretatsioon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ral sellest, e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järeldub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jasti siis,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k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jasti siis, kui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hk loogiline järelduvus tühjast valemite hulgast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a mis loogiline tõesus)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6553080" y="220968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22096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4"/>
          <p:cNvGraphicFramePr/>
          <p:nvPr/>
        </p:nvGraphicFramePr>
        <p:xfrm>
          <a:off x="1371600" y="1752480"/>
          <a:ext cx="30492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17524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5"/>
          <p:cNvGraphicFramePr/>
          <p:nvPr/>
        </p:nvGraphicFramePr>
        <p:xfrm>
          <a:off x="2895480" y="2209680"/>
          <a:ext cx="30492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22096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6"/>
          <p:cNvGraphicFramePr/>
          <p:nvPr/>
        </p:nvGraphicFramePr>
        <p:xfrm>
          <a:off x="1219320" y="3962520"/>
          <a:ext cx="304560" cy="30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3962520"/>
                    <a:ext cx="3045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7"/>
          <p:cNvGraphicFramePr/>
          <p:nvPr/>
        </p:nvGraphicFramePr>
        <p:xfrm>
          <a:off x="4724280" y="3962520"/>
          <a:ext cx="304920" cy="304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396252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8"/>
          <p:cNvGraphicFramePr/>
          <p:nvPr/>
        </p:nvGraphicFramePr>
        <p:xfrm>
          <a:off x="2971800" y="2819520"/>
          <a:ext cx="304920" cy="30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1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71800" y="281952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9"/>
          <p:cNvGraphicFramePr/>
          <p:nvPr/>
        </p:nvGraphicFramePr>
        <p:xfrm>
          <a:off x="1143000" y="3352680"/>
          <a:ext cx="30492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3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43000" y="33526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selt ekvivalentsed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ähistu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kui iga interpretatsio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ral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jasti siis, 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jasti siis, kui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hk loogiline ekvivalents on sama, mi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vivalentsi loogiline tõesu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2590920" y="1828800"/>
          <a:ext cx="30456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828800"/>
                    <a:ext cx="304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4"/>
          <p:cNvGraphicFramePr/>
          <p:nvPr/>
        </p:nvGraphicFramePr>
        <p:xfrm>
          <a:off x="6324480" y="1828800"/>
          <a:ext cx="30492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18288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5"/>
          <p:cNvGraphicFramePr/>
          <p:nvPr/>
        </p:nvGraphicFramePr>
        <p:xfrm>
          <a:off x="4800600" y="3048120"/>
          <a:ext cx="304920" cy="30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04812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ne ekvivalents on ekvivalentsiseos: ta on refleksiivne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ümmeetrili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ng transitiivne (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ulisi tautoloogiaid lausearvutu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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ulisi tautoloogiaid lausearvutu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vivalentsete asendamise omad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sieerimise omadu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828800" y="541008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4100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. Normaalkuju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eraal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õ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lausesümb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ardisjunktsioon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kus 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 on lõplik hulk litera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arkonjunktsioon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kus 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 on lõplik hulk literaa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junktiivne normaalkuju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kus 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on lõplik hul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ardisjunktsio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junktiivne normaalkuju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s 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on lõplik hul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arkonjunktsio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 teisendamine konjunktiivsele või disjunktiivsele normaalkujule (annab esialgse valemiga loogiliselt ekvivalentse valemi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katsioonid ära, kasutade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used sisse ning kahekordsed eitused ära, kasutades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junktsioonid või konjunktsioonid sisse, kasutade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j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õ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j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adud kuju võib veel optimeerid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suta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ptsioone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älistatud kolmanda seadus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tuolu seadus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hikute seadus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ja veel mitmeid taolisi reeglei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sejuhatus automaattõestami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olutsioonimeeto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s-Putnami meeto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õestuseotsingu strateegi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itseerim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 predikaatarvut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õrdusega predikaatarvu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strateegi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das tuvastada lausearvutuse valemi tautoloogilisu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ks põhimõttelist variant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antik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hk tõeväärtuste tabeli abi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astmes N rida, kus N on muutujate arv valem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õestusteoori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hk mõne järeldussüsteemi abil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lberti süsteem, Gentzeni naturaal- või sekventsiaalarvutus, resolutsioonimeetod, Davis-Putnam v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antik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hk tõeväärtustabeli vari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e tähele, 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 F mudel on kõigi muutujate väärtustuste-komplektide hulk, mille puhul valem F on tõene. Sisuliselt tõeväärtustabeli read, kus valem annab väärtuseks tõ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|= B tähendab, et kõigi mudelite (ridade) korral, kus A on tõene, on ka B tõ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|= B siis ja ainult siis, kui |= A -&gt;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 F on tautoloogiline siis ja ainult siis, kui valem –F on vastuolu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C840-1735-4685-8CD4-1520DB866816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9328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Näide: tõeväärtustabel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3200400"/>
          <a:ext cx="6049800" cy="2519280"/>
        </p:xfrm>
        <a:graphic>
          <a:graphicData uri="http://schemas.openxmlformats.org/drawingml/2006/table">
            <a:tbl>
              <a:tblPr/>
              <a:tblGrid>
                <a:gridCol w="576360"/>
                <a:gridCol w="576000"/>
                <a:gridCol w="2305080"/>
                <a:gridCol w="1295640"/>
                <a:gridCol w="12967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 → (q → p)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 </a:t>
                      </a:r>
                      <a:r>
                        <a:rPr b="0" lang="et-EE" sz="2400" spc="-1" strike="noStrike">
                          <a:solidFill>
                            <a:srgbClr val="000000"/>
                          </a:solidFill>
                          <a:latin typeface="cmsy10"/>
                          <a:ea typeface="Times New Roman"/>
                        </a:rPr>
                        <a:t>&amp;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t-EE" sz="2400" spc="-1" strike="noStrike">
                          <a:solidFill>
                            <a:srgbClr val="000000"/>
                          </a:solidFill>
                          <a:latin typeface="cmsy10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</a:t>
                      </a:r>
                      <a:r>
                        <a:rPr b="0" lang="et-EE" sz="2400" spc="-1" strike="noStrike">
                          <a:solidFill>
                            <a:srgbClr val="000000"/>
                          </a:solidFill>
                          <a:latin typeface="cmsy10"/>
                          <a:ea typeface="Times New Roman"/>
                        </a:rPr>
                        <a:t>v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t-EE" sz="2400" spc="-1" strike="noStrike">
                          <a:solidFill>
                            <a:srgbClr val="000000"/>
                          </a:solidFill>
                          <a:latin typeface="cmsy10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2"/>
          <p:cNvSpPr/>
          <p:nvPr/>
        </p:nvSpPr>
        <p:spPr>
          <a:xfrm>
            <a:off x="1066680" y="1600200"/>
            <a:ext cx="779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Pane tähele, 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(A -&gt;B)  on ekvivalentne (– A v 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õestusteoori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nt (järeldusmootorid jm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utame mõnda korrektset ja täielikku järelduste tuletamise/kontrollimise süstee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|- B tähendab, et valitud järeldussüsteemis saab A-st järeldada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äreldussüsteem on korrektne, ku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ui A |- B, siis A|=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äreldussüsteem on täielik, k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ui A|=B, siis A |- 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: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lberti süste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i aksioomi (aksioomiskeemi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ks järeldusreegl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endamine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ksioomiskeemide muutujaid võib asendada suvaliste lausearvutuse valemite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s ponens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t-EE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t-EE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     A -&gt;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1800" y="-4129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2" descr="\phi \to \phi  "/>
          <p:cNvPicPr/>
          <p:nvPr/>
        </p:nvPicPr>
        <p:blipFill>
          <a:blip r:embed="rId1"/>
          <a:stretch/>
        </p:blipFill>
        <p:spPr>
          <a:xfrm>
            <a:off x="1428840" y="1676520"/>
            <a:ext cx="514440" cy="171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\phi \to \left( \psi \to \phi \right) "/>
          <p:cNvPicPr/>
          <p:nvPr/>
        </p:nvPicPr>
        <p:blipFill>
          <a:blip r:embed="rId2"/>
          <a:stretch/>
        </p:blipFill>
        <p:spPr>
          <a:xfrm>
            <a:off x="1395360" y="1981080"/>
            <a:ext cx="1057320" cy="190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\left ( \phi \to ( \psi \rightarrow \xi \right)) \to \left( \left( \phi \to \psi \right) \to  \left( \phi \to \xi \right) \right)"/>
          <p:cNvPicPr/>
          <p:nvPr/>
        </p:nvPicPr>
        <p:blipFill>
          <a:blip r:embed="rId3"/>
          <a:stretch/>
        </p:blipFill>
        <p:spPr>
          <a:xfrm>
            <a:off x="1387440" y="2286000"/>
            <a:ext cx="3238560" cy="200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\left ( \lnot \phi \to \lnot \psi \right) \to \left( \psi \to \phi \right) "/>
          <p:cNvPicPr/>
          <p:nvPr/>
        </p:nvPicPr>
        <p:blipFill>
          <a:blip r:embed="rId4"/>
          <a:stretch/>
        </p:blipFill>
        <p:spPr>
          <a:xfrm>
            <a:off x="1376280" y="2567160"/>
            <a:ext cx="1876680" cy="1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junktiivne normaalkuju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NF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 F on CNF kujul, kui ta on disjunktsioonide konjunktsioon, kus disjunktsiooni elemendid on kas lausemuutujad või eitusega lausemuutuja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e tähe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-&gt;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ekvivalentn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A v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&amp; B &amp; C) -&gt; D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ekvivalentn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A v -B v -C v 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&amp; B &amp; C) -&gt; (D v E) 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ekvivalentne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 v -B v -C v D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&amp; B &amp; C) -&gt; (D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)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ekvivalent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&amp; B &amp; C) -&gt; D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amp;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&amp; B &amp; C) -&gt; E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teklassikalised loogik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aalloog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alloog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jeldusloogika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1. Lausearvu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searvutuse aluseks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s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õiste (proposition). Arutlus jaotatakse lauseteks, millest igaüks on kas tõene või väär. Lausete omavahelised seosed määravad kogu arutluse kehtiv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ma olen t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ma saan hea h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kui ma olen tark, siis saan hea h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kui ma saan hea hinde, siis olen t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– ma olen kas tark või saan hea h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– ma olen tark ja saan hea h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les moodustatakse uusi lauseid sidesõnade abil, lausearvutuses kasutatakse vastavalt lausearvutuse tehte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junktsio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junktsio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õ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u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, mi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katsio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… sii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vivalent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is ja ainult siis,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jasti si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les on tihti ka seoseid, mis ei ole lausearvutuse tehted (näiteks sidesõnad sest, enne kui, jne. …) Tähelepanu tuleb pöörata ka sellele, et kui… siis… ei vasta alati lausearvutuse tehte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Lausearvutuse süntak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ähestik – lausesümbolid (proposition symbo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semuutujate sümb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ste tehete sümb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javahemärg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0:49:50Z</dcterms:created>
  <dc:creator>Tiina Zingel</dc:creator>
  <dc:description/>
  <dc:language>en-US</dc:language>
  <cp:lastModifiedBy>Tanel</cp:lastModifiedBy>
  <dcterms:modified xsi:type="dcterms:W3CDTF">2013-02-04T07:22:52Z</dcterms:modified>
  <cp:revision>21</cp:revision>
  <dc:subject/>
  <dc:title>Rakendusliku loogika süvakursus</dc:title>
</cp:coreProperties>
</file>